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D02-99CC-434E-AD08-479F8013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68C-7581-44CC-A40D-1C07C1E7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540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F41-FAA1-45F1-AB66-862A2BE1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00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00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967-41F8-4025-9E6C-B6F016FF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7BFB-6926-42BC-98ED-E47513D2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4FAE-E0D6-4244-A527-3CE5332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C665-8CC5-4431-A54B-078C0BE2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F856-C25A-4354-9C73-07C1503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A7F7-919F-46E5-972F-C5AF3921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9200" y="577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CB1-2026-4B32-BA91-83C9EDEE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6182-08C2-48CB-BBFB-DCF869B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0B4-2480-4EAD-A70B-A3AEFE20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4A1F-3079-4FA0-B0F1-8D4A758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490-4BC0-4B68-AA06-C7B880C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402084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7DE4-382A-41A6-B801-EB0EC82A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20BE-3F95-49AB-86B0-14B24811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175212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4020840"/>
            <a:ext cx="240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E4E-276D-48EB-96B7-BDE70676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82F-A72B-4240-B593-6521841E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19B-CE37-4F69-8652-0E8D6E0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06F-A593-4961-9F87-F0606B1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9200" y="577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0FD-B2C2-459F-89BA-A88C2575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1CD-A800-4924-A132-F565A59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5400" y="402084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4B0-EED7-4C59-8F37-C645E64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5400" y="1752120"/>
            <a:ext cx="3643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4020840"/>
            <a:ext cx="7467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ADD-AC4B-4550-9F26-9DCEA69A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3EED-7213-4955-9D2E-6492A1930C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30796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693B-8A5B-499E-A6F7-FACA1728437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30796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بسم الله الرحمن الرحی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Jadid"/>
              </a:rPr>
              <a:t>تدبر در سوره مبارکه تغاب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فضای سخ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Homa"/>
              </a:rPr>
              <a:t>کفر به الله تعا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Homa"/>
              </a:rPr>
              <a:t>تولی از فرامین رسول خد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ALAEM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Homa"/>
              </a:rPr>
              <a:t>به خاطر مصیبتها و سختیهای راه ایمان و اطاع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يُسَبِّحُ لِلَّهِ مَا فِي السَّمَاوَاتِ وَمَا فِي الأرْض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 لَهُ الْمُلْكُ وَلَهُ الْحَمْد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هُوَ عَلَى كُلِّ شَيْءٍ قَدِير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هُوَ الَّذِي خَلَقَك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مِنْكُمْ كَافِرٌ وَمِنْكُمْ مُؤْمِن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بِمَا تَعْمَلُونَ بَصِير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خَلَقَ السَّمَاوَاتِ وَالأرْضَ بِالْحَقِ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وَصَوَّرَكُمْ فَأَحْسَنَ صُوَرَكُم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وَإِلَيْهِ الْمَصِير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يَعْلَمُ مَا فِي السَّمَاوَاتِ وَالأرْض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وَيَعْلَمُ مَا تُسِرُّونَ وَمَا تُعْلِنُون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 وَاللَّهُ عَلِيمٌ بِذَاتِ الصُّدُورِ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أَلَمْ يَأْتِكُمْ نَبَأُ الَّذِينَ كَفَرُوا مِنْ قَبْل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ذَاقُوا وَبَالَ أَمْرِهِمْ وَلَهُمْ عَذَابٌ أَل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ذَلِكَ بِأَنَّهُ كَانَتْ تَأْتِيهِمْ رُسُلُهُمْ بِالْبَيِّنَات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قَالُوا أَبَشَرٌ يَهْدُونَنَا فَكَفَرُوا وَتَوَلَّوْ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سْتَغْنَى اللَّهُ وَاللَّهُ غَنِيٌّ حَمِيد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زَعَمَ الَّذِينَ كَفَرُوا أَنْ لَنْ يُبْعَثُو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قُلْ بَلَى وَرَبِّي لَتُبْعَثُنّ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 ثُمَّ لَتُنَبَّؤُنَّ بِمَا عَمِلْت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ذَلِكَ عَلَى اللَّهِ يَسِير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آمِنُوا بِاللَّهِ وَرَسُولِهِ وَالنُّورِ الَّذِي أَنْزَلْنَ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بِمَا تَعْمَلُونَ خَبِير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يَوْمَ يَجْمَعُكُمْ لِيَوْمِ الْجَمْع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ذَلِكَ يَوْمُ التَّغَابُن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وَمَنْ يُؤْمِنْ بِاللَّهِ وَيَعْمَلْ صَالِحً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يُكَفِّرْ عَنْهُ سَيِّئَاتِهِ وَيُدْخِلْهُ جَنَّاتٍ تَجْرِي مِنْ تَحْتِهَا الأنْهَارُ خَالِدِينَ فِيهَا أَبَدًا ذَلِكَ الْفَوْزُ الْعَظِيم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وَالَّذِينَ كَفَرُوا وَكَذَّبُوا بِآيَاتِنَ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أُولَئِكَ أَصْحَابُ النَّارِ خَالِدِينَ فِيهَا وَبِئْسَ الْمَصِير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مَا أَصَابَ مِنْ مُصِيبَةٍ إِلا بِإِذْنِ اللَّه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مَنْ يُؤْمِنْ بِاللَّه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 يَهْدِ قَلْبَه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بِكُلِّ شَيْءٍ عَل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أَطِيعُوا اللَّهَ وَأَطِيعُوا الرَّسُول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فَإِنْ تَوَلَّيْتُم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فَإِنَّمَا عَلَى رَسُولِنَا الْبَلاغُ الْمُبِين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١٢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اللَّهُ لا إِلَهَ إِلا هُو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عَلَى اللَّهِ فَلْيَتَوَكَّلِ الْمُؤْمِنُونَ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٣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e_qur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تشخیص سیاقه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جهت هدایت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IranNastal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جدید ایمان به خدا و رسول</a:t>
            </a:r>
            <a:r>
              <a:rPr b="0" lang="fa-IR" sz="5400" spc="-1" strike="noStrike">
                <a:solidFill>
                  <a:srgbClr val="000000"/>
                </a:solidFill>
                <a:latin typeface="ALAEM"/>
                <a:ea typeface="ALAEM"/>
              </a:rPr>
              <a:t></a:t>
            </a:r>
            <a:r>
              <a:rPr b="0" lang="fa-IR" sz="5400" spc="-1" strike="noStrike">
                <a:solidFill>
                  <a:srgbClr val="000000"/>
                </a:solidFill>
                <a:latin typeface="IranNastaliq"/>
                <a:ea typeface="IranNastaliq"/>
              </a:rPr>
              <a:t> و تثبیت اطاعت از ایش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Homa"/>
              </a:rPr>
              <a:t>به خاطر مصیبتها، راه عصیان و کفر را در پیش گرفته اید، به خدا و رس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ALAEM"/>
              </a:rPr>
              <a:t>6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Homa"/>
              </a:rPr>
              <a:t> ایمان آورید و بدانید که سعادت آخرت و آرامش دنیا در گرو ایمان به خداست و از خدا و رسول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ALAEM"/>
              </a:rPr>
              <a:t>6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Homa"/>
              </a:rPr>
              <a:t> اطاعت کنید و برای مواجهه با سختی های راه اطاعت، بر خدای یگانه توکل کن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دوم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فضای سخ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Homa"/>
              </a:rPr>
              <a:t>دشمنی برخی از ازواج و اولاد مؤمنان با ایش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Homa"/>
              </a:rPr>
              <a:t>از طریق ترغیب آنان به ترجیح اموال و اولاد بر اجر عظیم اله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يَا أَيُّهَا الَّذِينَ آمَنُو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إِنَّ مِنْ أَزْوَاجِكُمْ وَأَوْلادِكُمْ عَدُوًّا لَك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احْذَرُوه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إِنْ تَعْفُوا وَتَصْفَحُوا وَتَغْفِرُو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إِنَّ اللَّهَ غَفُورٌ رَح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٤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إِنَّمَا أَمْوَالُكُمْ وَأَوْلادُكُمْ فِتْنَة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عِنْدَهُ أَجْرٌ عَظ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٥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فَاتَّقُوا اللَّهَ مَا اسْتَطَعْتُمْ وَاسْمَعُوا وَأَطِيعُو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أَنْفِقُوا خَيْرًا لأنْفُسِك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مَنْ يُوقَ شُحَّ نَفْسِهِ فَأُولَئِكَ هُمُ الْمُفْلِحُونَ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٦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اختا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إِنْ تُقْرِضُوا اللَّهَ قَرْضًا حَسَنً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يُضَاعِفْهُ لَكُمْ وَيَغْفِرْ لَكُم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اللَّهُ شَكُورٌ حَل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٧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عَالِمُ الْغَيْبِ وَالشَّهَادَة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 الْعَزِيزُ الْحَكِيمُ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٨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جهت هدایت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IranNastal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انفاق، راهکار ثبات قدم در لغزشگاه ایمان و اطاع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Homa"/>
              </a:rPr>
              <a:t>برخی از ازواج و اولاد، دشمن ایمان شما هستند و شما را به ترجیح اموال و اولاد بر خدا ترغیب می کنند، از آنها برحذر باشید؛ و اموال و اولاد، مایه آزمایش اند انفاق کنید که این راه رسیدن به رستگاری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ور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فضای سخ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Homa"/>
              </a:rPr>
              <a:t>لغزشگاه های ایمان و اطاع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Homa"/>
              </a:rPr>
              <a:t>مصیبتها و سختیهای راه ایمان و اطاعت موجب شده است که برخی به خدای متعالی کفر ورزیده و از فرامین رسول خدا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ALAEM"/>
              </a:rPr>
              <a:t>6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Homa"/>
              </a:rPr>
              <a:t> سرپیچی کن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Homa"/>
              </a:rPr>
              <a:t>برخی از ازواج و اولاد مؤمنان، با ایشان دشمنی کرده و آنان را به ترجیح اموال و اولاد بر اجر عظیم الهی ترغیب می کنن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جهت هدایت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IranNastaliq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IranNastaliq"/>
                <a:cs typeface="IranNastaliq"/>
              </a:rPr>
              <a:t>تجدید ایمان و تثبیت اطاعت و ثبات قدم در راه ایمان و اطاعت، با انفا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Homa"/>
              </a:rPr>
              <a:t>راه سخت است و کفر و عصیان، شما را به پرتگاه عذاب می کشاند به خدا و رسول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ALAEM"/>
              </a:rPr>
              <a:t>6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Homa"/>
              </a:rPr>
              <a:t> ایمان آورید و از ایشان اطاعت کنید و بر خدای یگانه توکل کنی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Homa"/>
              </a:rPr>
              <a:t>از دشمنی برخی از ازواج و اولاد برحذر باشید و در فتنه اموال و اولاد، اهل انفاق باشید. این راهکار ثبات قدم در راه ایمان و اطاعت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اول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بِسْمِ اللَّهِ الرَّحْمَنِ الرَّحِيم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يُسَبِّحُ لِلَّهِ مَا فِي السَّمَاوَاتِ وَمَا فِي الأرْضِ لَهُ الْمُلْكُ وَلَهُ الْحَمْدُ وَهُوَ عَلَى كُلِّ شَيْءٍ قَدِيرٌ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١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هُوَ الَّذِي خَلَقَكُمْ فَمِنْكُمْ كَافِرٌ وَمِنْكُمْ مُؤْمِنٌ وَاللَّهُ بِمَا تَعْمَلُونَ بَصِيرٌ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٢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خَلَقَ السَّمَاوَاتِ وَالأرْضَ بِالْحَقِّ وَصَوَّرَكُمْ فَأَحْسَنَ صُوَرَكُمْ وَإِلَيْهِ الْمَصِير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٣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يَعْلَمُ مَا فِي السَّمَاوَاتِ وَالأرْضِ وَيَعْلَمُ مَا تُسِرُّونَ وَمَا تُعْلِنُونَ وَاللَّهُ عَلِيمٌ بِذَاتِ الصُّدُورِ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٤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اول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أَلَمْ يَأْتِكُمْ نَبَأُ الَّذِينَ كَفَرُوا مِنْ قَبْلُ فَذَاقُوا وَبَالَ أَمْرِهِمْ وَلَهُمْ عَذَابٌ أَلِيمٌ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٥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ذَلِكَ بِأَنَّهُ كَانَتْ تَأْتِيهِمْ رُسُلُهُمْ بِالْبَيِّنَاتِ فَقَالُوا أَبَشَرٌ يَهْدُونَنَا فَكَفَرُوا وَتَوَلَّوْا وَاسْتَغْنَى اللَّهُ وَاللَّهُ غَنِيٌّ حَمِيدٌ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٦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زَعَمَ الَّذِينَ كَفَرُوا أَنْ لَنْ يُبْعَثُوا قُلْ بَلَى وَرَبِّي لَتُبْعَثُنَّ ثُمَّ لَتُنَبَّؤُنَّ بِمَا عَمِلْتُمْ وَذَلِكَ عَلَى اللَّهِ يَسِيرٌ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اول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فَآمِنُوا بِاللَّهِ وَرَسُولِهِ وَالنُّورِ الَّذِي أَنْزَلْنَا وَاللَّهُ بِمَا تَعْمَلُونَ خَبِيرٌ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٨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يَوْمَ يَجْمَعُكُمْ لِيَوْمِ الْجَمْعِ ذَلِكَ يَوْمُ التَّغَابُنِ وَمَنْ يُؤْمِنْ بِاللَّهِ وَيَعْمَلْ صَالِحًا يُكَفِّرْ عَنْهُ سَيِّئَاتِهِ وَيُدْخِلْهُ جَنَّاتٍ تَجْرِي مِنْ تَحْتِهَا الأنْهَارُ خَالِدِينَ فِيهَا أَبَدًا ذَلِكَ الْفَوْزُ الْعَظِيم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٩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وَالَّذِينَ كَفَرُوا وَكَذَّبُوا بِآيَاتِنَا أُولَئِكَ أَصْحَابُ النَّارِ خَالِدِينَ فِيهَا وَبِئْسَ الْمَصِيرُ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١٠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مَا أَصَابَ مِنْ مُصِيبَةٍ إِلا بِإِذْنِ اللَّهِ وَمَنْ يُؤْمِنْ بِاللَّهِ يَهْدِ قَلْبَهُ وَاللَّهُ بِكُلِّ شَيْءٍ عَلِيمٌ (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me_quran"/>
              </a:rPr>
              <a:t>١١</a:t>
            </a: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اول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وَأَطِيعُوا اللَّهَ وَأَطِيعُوا الرَّسُولَ فَإِنْ تَوَلَّيْتُمْ فَإِنَّمَا عَلَى رَسُولِنَا الْبَلاغُ الْمُبِينُ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٢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اللَّهُ لا إِلَهَ إِلا هُوَ وَعَلَى اللَّهِ فَلْيَتَوَكَّلِ الْمُؤْمِنُونَ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٣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e_qur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دوم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يَا أَيُّهَا الَّذِينَ آمَنُوا إِنَّ مِنْ أَزْوَاجِكُمْ وَأَوْلادِكُمْ عَدُوًّا لَكُمْ فَاحْذَرُوهُمْ وَإِنْ تَعْفُوا وَتَصْفَحُوا وَتَغْفِرُوا فَإِنَّ اللَّهَ غَفُورٌ رَحِيمٌ (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me_quran"/>
              </a:rPr>
              <a:t>١٤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دوم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4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إِنَّمَا أَمْوَالُكُمْ وَأَوْلادُكُمْ فِتْنَةٌ وَاللَّهُ عِنْدَهُ أَجْرٌ عَظِيمٌ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١٥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فَاتَّقُوا اللَّهَ مَا اسْتَطَعْتُمْ وَاسْمَعُوا وَأَطِيعُوا وَأَنْفِقُوا خَيْرًا لأنْفُسِكُمْ وَمَنْ يُوقَ شُحَّ نَفْسِهِ فَأُولَئِكَ هُمُ الْمُفْلِحُونَ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١٦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إِنْ تُقْرِضُوا اللَّهَ قَرْضًا حَسَنًا يُضَاعِفْهُ لَكُمْ وَيَغْفِرْ لَكُمْ وَاللَّهُ شَكُورٌ حَلِيمٌ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١٧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عَالِمُ الْغَيْبِ وَالشَّهَادَةِ الْعَزِيزُ الْحَكِيمُ (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me_quran"/>
              </a:rPr>
              <a:t>١٨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me_qur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9200" y="57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Jadid"/>
              </a:rPr>
              <a:t>سیاق اول. آی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 تا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Jadid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6:52:17Z</dcterms:created>
  <dc:creator>Ali</dc:creator>
  <dc:description/>
  <cp:keywords/>
  <dc:language>en-US</dc:language>
  <cp:lastModifiedBy>Ali</cp:lastModifiedBy>
  <dcterms:modified xsi:type="dcterms:W3CDTF">2011-04-26T11:28:23Z</dcterms:modified>
  <cp:revision>3</cp:revision>
  <dc:subject/>
  <dc:title>بسم الله الرحمن الرحی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631033</vt:lpwstr>
  </property>
</Properties>
</file>